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4.png" ContentType="image/png"/>
  <Override PartName="/ppt/media/image27.png" ContentType="image/png"/>
  <Override PartName="/ppt/media/image12.wmf" ContentType="image/x-wmf"/>
  <Override PartName="/ppt/media/image9.png" ContentType="image/png"/>
  <Override PartName="/ppt/media/image39.png" ContentType="image/png"/>
  <Override PartName="/ppt/media/image30.png" ContentType="image/png"/>
  <Override PartName="/ppt/media/image33.wmf" ContentType="image/x-wmf"/>
  <Override PartName="/ppt/media/image13.png" ContentType="image/png"/>
  <Override PartName="/ppt/media/image11.png" ContentType="image/png"/>
  <Override PartName="/ppt/media/image6.wmf" ContentType="image/x-wmf"/>
  <Override PartName="/ppt/media/image28.png" ContentType="image/png"/>
  <Override PartName="/ppt/media/image31.wmf" ContentType="image/x-wmf"/>
  <Override PartName="/ppt/media/image34.wmf" ContentType="image/x-wmf"/>
  <Override PartName="/ppt/media/image14.png" ContentType="image/png"/>
  <Override PartName="/ppt/media/image36.png" ContentType="image/png"/>
  <Override PartName="/ppt/media/image37.png" ContentType="image/png"/>
  <Override PartName="/ppt/media/image38.png" ContentType="image/png"/>
  <Override PartName="/ppt/media/image8.png" ContentType="image/png"/>
  <Override PartName="/ppt/media/image7.wmf" ContentType="image/x-wmf"/>
  <Override PartName="/ppt/media/image3.png" ContentType="image/png"/>
  <Override PartName="/ppt/media/image26.png" ContentType="image/png"/>
  <Override PartName="/ppt/media/image15.wmf" ContentType="image/x-wmf"/>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jpeg" ContentType="image/jpeg"/>
  <Override PartName="/ppt/media/image10.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6"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2"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1"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7059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1" name="PlaceHolder 2"/>
          <p:cNvSpPr>
            <a:spLocks noGrp="1"/>
          </p:cNvSpPr>
          <p:nvPr>
            <p:ph/>
          </p:nvPr>
        </p:nvSpPr>
        <p:spPr>
          <a:xfrm>
            <a:off x="762120" y="1295280"/>
            <a:ext cx="375552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4"/>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4"/>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2"/>
          <p:cNvSpPr>
            <a:spLocks noGrp="1"/>
          </p:cNvSpPr>
          <p:nvPr>
            <p:ph/>
          </p:nvPr>
        </p:nvSpPr>
        <p:spPr>
          <a:xfrm>
            <a:off x="762120" y="129528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3"/>
          <p:cNvSpPr>
            <a:spLocks noGrp="1"/>
          </p:cNvSpPr>
          <p:nvPr>
            <p:ph/>
          </p:nvPr>
        </p:nvSpPr>
        <p:spPr>
          <a:xfrm>
            <a:off x="762120" y="3962160"/>
            <a:ext cx="76960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2"/>
          <p:cNvSpPr>
            <a:spLocks noGrp="1"/>
          </p:cNvSpPr>
          <p:nvPr>
            <p:ph/>
          </p:nvPr>
        </p:nvSpPr>
        <p:spPr>
          <a:xfrm>
            <a:off x="7621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5920" y="129528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7621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5"/>
          <p:cNvSpPr>
            <a:spLocks noGrp="1"/>
          </p:cNvSpPr>
          <p:nvPr>
            <p:ph/>
          </p:nvPr>
        </p:nvSpPr>
        <p:spPr>
          <a:xfrm>
            <a:off x="4705920" y="3962160"/>
            <a:ext cx="375552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7" name="PlaceHolder 2"/>
          <p:cNvSpPr>
            <a:spLocks noGrp="1"/>
          </p:cNvSpPr>
          <p:nvPr>
            <p:ph/>
          </p:nvPr>
        </p:nvSpPr>
        <p:spPr>
          <a:xfrm>
            <a:off x="76212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336420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5966280" y="129528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76212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6"/>
          <p:cNvSpPr>
            <a:spLocks noGrp="1"/>
          </p:cNvSpPr>
          <p:nvPr>
            <p:ph/>
          </p:nvPr>
        </p:nvSpPr>
        <p:spPr>
          <a:xfrm>
            <a:off x="336420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7"/>
          <p:cNvSpPr>
            <a:spLocks noGrp="1"/>
          </p:cNvSpPr>
          <p:nvPr>
            <p:ph/>
          </p:nvPr>
        </p:nvSpPr>
        <p:spPr>
          <a:xfrm>
            <a:off x="5966280" y="3962160"/>
            <a:ext cx="2477880" cy="243504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2"/>
          <p:cNvSpPr>
            <a:spLocks noGrp="1"/>
          </p:cNvSpPr>
          <p:nvPr>
            <p:ph type="subTitle"/>
          </p:nvPr>
        </p:nvSpPr>
        <p:spPr>
          <a:xfrm>
            <a:off x="762120" y="1295280"/>
            <a:ext cx="7696080" cy="51055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2"/>
          <p:cNvSpPr>
            <a:spLocks noGrp="1"/>
          </p:cNvSpPr>
          <p:nvPr>
            <p:ph/>
          </p:nvPr>
        </p:nvSpPr>
        <p:spPr>
          <a:xfrm>
            <a:off x="762120" y="1295280"/>
            <a:ext cx="7696080" cy="51055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380880" y="6477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2720" y="6477120"/>
            <a:ext cx="140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mp;A Case Study</a:t>
            </a:r>
            <a:endParaRPr b="0" lang="en-US" sz="1200" spc="-1" strike="noStrike">
              <a:solidFill>
                <a:srgbClr val="000000"/>
              </a:solidFill>
              <a:latin typeface="Arial"/>
            </a:endParaRPr>
          </a:p>
        </p:txBody>
      </p:sp>
      <p:sp>
        <p:nvSpPr>
          <p:cNvPr id="7" name="Text Box 16">
            <a:hlinkClick r:id="rId3" action="ppaction://hlinksldjump"/>
          </p:cNvPr>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ED52-BB6F-4484-9078-F3A2DD84BB9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6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0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3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7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5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3"/>
          <p:cNvGrpSpPr/>
          <p:nvPr/>
        </p:nvGrpSpPr>
        <p:grpSpPr>
          <a:xfrm>
            <a:off x="0" y="0"/>
            <a:ext cx="9144000" cy="6858000"/>
            <a:chOff x="0" y="0"/>
            <a:chExt cx="9144000" cy="6858000"/>
          </a:xfrm>
        </p:grpSpPr>
        <p:sp>
          <p:nvSpPr>
            <p:cNvPr id="49" name="Rectangle 14"/>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15"/>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1"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3" name="Text Box 9"/>
          <p:cNvSpPr/>
          <p:nvPr/>
        </p:nvSpPr>
        <p:spPr>
          <a:xfrm>
            <a:off x="661968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CF9E-D72B-43BE-BB0D-DC8808667CB8}"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4"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3B82-BF97-4DE2-9DE9-A12112E440EA}"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9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3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72"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10"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48"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86"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24" name="PlaceHolder 2"/>
          <p:cNvSpPr>
            <a:spLocks noGrp="1"/>
          </p:cNvSpPr>
          <p:nvPr>
            <p:ph type="body"/>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
          <p:cNvPicPr/>
          <p:nvPr/>
        </p:nvPicPr>
        <p:blipFill>
          <a:blip r:embed="rId1"/>
          <a:stretch/>
        </p:blipFill>
        <p:spPr>
          <a:xfrm>
            <a:off x="762120" y="2895480"/>
            <a:ext cx="7543800" cy="227664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 - Overview</a:t>
            </a:r>
            <a:endParaRPr b="1" lang="en-US" sz="2000" spc="-1" strike="noStrike">
              <a:solidFill>
                <a:srgbClr val="000000"/>
              </a:solidFill>
              <a:latin typeface="Arial"/>
            </a:endParaRPr>
          </a:p>
        </p:txBody>
      </p:sp>
      <p:sp>
        <p:nvSpPr>
          <p:cNvPr id="606" name=""/>
          <p:cNvSpPr txBox="1"/>
          <p:nvPr/>
        </p:nvSpPr>
        <p:spPr>
          <a:xfrm>
            <a:off x="380880" y="1219320"/>
            <a:ext cx="8305920" cy="50292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no assurance can be given that any particular level of cost savings will be achieved, the Kraft Foods and Cadbury combination is expected to provide the potential for meaningful revenue synergies over time from investments in distribution, marketing and product development.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t is expected that pre-tax cost savings of at least $675 million annually can be realized by the end of the third year following completion. Total one-off implementation cash costs of approximately $1.3 billion are expected to be incurred in the first three years following complet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h we and Cadbury have implemented extensive cost saving and operating efficiency programs in recent years and have already delivered significant margin improvement and revenue growth improvements. These annual cost savings are still expected to be achieved over and above the current performance improvement plans at each of Kraft Foods and Cadbury.  While it is anticipated that these targeted savings will continue to be delivered, we believe that the combined company  would be capable of achieving substantial further cost savings through economies of scale and procurement benefits, general and administrative cost savings and marketing and selling costs saving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Sources</a:t>
            </a:r>
            <a:endParaRPr b="1" lang="en-US" sz="2000" spc="-1" strike="noStrike">
              <a:solidFill>
                <a:srgbClr val="000000"/>
              </a:solidFill>
              <a:latin typeface="Arial"/>
            </a:endParaRPr>
          </a:p>
        </p:txBody>
      </p:sp>
      <p:sp>
        <p:nvSpPr>
          <p:cNvPr id="60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taken all information concerning Cadbury from publicly available information.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not had due diligence access to Cadbury or its business or managemen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non-public information concerning Cadbury’s business and financial condition was not available to us for the purpose of preparing this prospectus/offer to exchange. </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Synergies</a:t>
            </a:r>
            <a:endParaRPr b="1" lang="en-US" sz="2000" spc="-1" strike="noStrike">
              <a:solidFill>
                <a:srgbClr val="000000"/>
              </a:solidFill>
              <a:latin typeface="Arial"/>
            </a:endParaRPr>
          </a:p>
        </p:txBody>
      </p:sp>
      <p:sp>
        <p:nvSpPr>
          <p:cNvPr id="61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sources of the expected annual pre-tax cost savings of at least $675 million are:</a:t>
            </a:r>
            <a:endParaRPr b="0" lang="en-US" sz="2000" spc="-1" strike="noStrike">
              <a:solidFill>
                <a:srgbClr val="000000"/>
              </a:solidFill>
              <a:latin typeface="Arial"/>
            </a:endParaRPr>
          </a:p>
          <a:p>
            <a:pPr lvl="2" marL="1371600" indent="-27936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operational cost savings of $300 million per annum resulting from efficiencies and economies of scale in the areas of procurement, manufacturing, customer service, logistics and research and development;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general and administrative cost savings of $250 million resulting from efficiencies in the areas of central, regional and country level administrative expenses; and </a:t>
            </a:r>
            <a:endParaRPr b="0" lang="en-US" sz="2000" spc="-1" strike="noStrike">
              <a:solidFill>
                <a:srgbClr val="000000"/>
              </a:solidFill>
              <a:latin typeface="Arial"/>
            </a:endParaRPr>
          </a:p>
          <a:p>
            <a:pPr lvl="2" marL="1371600" indent="-27936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arketing and selling cost savings of $125 million resulting from efficiencies and economies of scale in the areas of marketing, media and selling expenses. </a:t>
            </a:r>
            <a:endParaRPr b="0"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Merger Synergy Estimates</a:t>
            </a:r>
            <a:endParaRPr b="1" lang="en-US" sz="2000" spc="-1" strike="noStrike">
              <a:solidFill>
                <a:srgbClr val="000000"/>
              </a:solidFill>
              <a:latin typeface="Arial"/>
            </a:endParaRPr>
          </a:p>
        </p:txBody>
      </p:sp>
      <p:pic>
        <p:nvPicPr>
          <p:cNvPr id="612" name="Picture 2" descr=""/>
          <p:cNvPicPr/>
          <p:nvPr/>
        </p:nvPicPr>
        <p:blipFill>
          <a:blip r:embed="rId1"/>
          <a:stretch/>
        </p:blipFill>
        <p:spPr>
          <a:xfrm>
            <a:off x="628560" y="1633680"/>
            <a:ext cx="7886880" cy="445752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Acquirer) </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and Benefits of Acquisition</a:t>
            </a:r>
            <a:endParaRPr b="1" lang="en-US" sz="2000" spc="-1" strike="noStrike">
              <a:solidFill>
                <a:srgbClr val="000000"/>
              </a:solidFill>
              <a:latin typeface="Arial"/>
            </a:endParaRPr>
          </a:p>
        </p:txBody>
      </p:sp>
      <p:sp>
        <p:nvSpPr>
          <p:cNvPr id="615" name=""/>
          <p:cNvSpPr txBox="1"/>
          <p:nvPr/>
        </p:nvSpPr>
        <p:spPr>
          <a:xfrm>
            <a:off x="762120" y="1295280"/>
            <a:ext cx="7696080" cy="5105520"/>
          </a:xfrm>
          <a:prstGeom prst="rect">
            <a:avLst/>
          </a:prstGeom>
          <a:noFill/>
          <a:ln w="0">
            <a:noFill/>
          </a:ln>
        </p:spPr>
        <p:txBody>
          <a:bodyPr lIns="92160" rIns="92160" tIns="46080" bIns="46080" anchor="t">
            <a:normAutofit fontScale="99000"/>
          </a:bodyPr>
          <a:p>
            <a:pPr marL="402120" indent="-40212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believe that the offer will deliver the following key benefits: </a:t>
            </a:r>
            <a:endParaRPr b="0" lang="en-US" sz="19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per share in 2011 of approximately $0.05 on a cash basis;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mid-teens return on investment, well in excess of our cost of capital.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retion to earnings in the second year following completion on a cash basis (which excludes the one-time costs to achieve synergies and expenses related to the transaction and the impact of non-cash items such as the amortization of intangibles after acquisition);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return on investment in excess of our cost of capital within an acceptable timeframe;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tention of our investment-grade credit rating; and </a:t>
            </a: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28560" indent="1634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intenance of our dividend. </a:t>
            </a:r>
            <a:endParaRPr b="0" lang="en-US" sz="17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Targets in Transaction</a:t>
            </a:r>
            <a:endParaRPr b="1" lang="en-US" sz="2000" spc="-1" strike="noStrike">
              <a:solidFill>
                <a:srgbClr val="000000"/>
              </a:solidFill>
              <a:latin typeface="Arial"/>
            </a:endParaRPr>
          </a:p>
        </p:txBody>
      </p:sp>
      <p:sp>
        <p:nvSpPr>
          <p:cNvPr id="61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will increase our long-term growth targets, while still generating significant near-term benefits.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top line, it will accelerate our long-term growth target to 5 percent or more.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bottom line, it will enhance our long-term EPS growth target to 9 to 11 percent. </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he transaction will be accretive to cash EPS</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action should have a mid-teens internal rate of return.</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Objectives in Acquisition</a:t>
            </a:r>
            <a:endParaRPr b="1" lang="en-US" sz="2000" spc="-1" strike="noStrike">
              <a:solidFill>
                <a:srgbClr val="000000"/>
              </a:solidFill>
              <a:latin typeface="Arial"/>
            </a:endParaRPr>
          </a:p>
        </p:txBody>
      </p:sp>
      <p:pic>
        <p:nvPicPr>
          <p:cNvPr id="619" name="Picture 2" descr=""/>
          <p:cNvPicPr/>
          <p:nvPr/>
        </p:nvPicPr>
        <p:blipFill>
          <a:blip r:embed="rId1"/>
          <a:stretch/>
        </p:blipFill>
        <p:spPr>
          <a:xfrm>
            <a:off x="719280" y="1706400"/>
            <a:ext cx="7705440" cy="431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Accretion/Dilution</a:t>
            </a:r>
            <a:endParaRPr b="1" lang="en-US" sz="2000" spc="-1" strike="noStrike">
              <a:solidFill>
                <a:srgbClr val="000000"/>
              </a:solidFill>
              <a:latin typeface="Arial"/>
            </a:endParaRPr>
          </a:p>
        </p:txBody>
      </p:sp>
      <p:pic>
        <p:nvPicPr>
          <p:cNvPr id="621" name="Picture 2" descr=""/>
          <p:cNvPicPr/>
          <p:nvPr/>
        </p:nvPicPr>
        <p:blipFill>
          <a:blip r:embed="rId1"/>
          <a:stretch/>
        </p:blipFill>
        <p:spPr>
          <a:xfrm>
            <a:off x="1257480" y="1600200"/>
            <a:ext cx="6629400" cy="45259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ation</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Issues</a:t>
            </a:r>
            <a:endParaRPr b="1" lang="en-US" sz="2000" spc="-1" strike="noStrike">
              <a:solidFill>
                <a:srgbClr val="000000"/>
              </a:solidFill>
              <a:latin typeface="Arial"/>
            </a:endParaRPr>
          </a:p>
        </p:txBody>
      </p:sp>
      <p:sp>
        <p:nvSpPr>
          <p:cNvPr id="59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Kraft and Cadbury on Standalone basis using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Multiples versus DCF Model</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premium in merger and analysis of transac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even level of synergies using alternative meth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level of EV/EBITDA</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taxes on transaction and EV/EBITDA Ratio</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retion and Dilution Analysis of Kraf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Analysis of Cadbury</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alone Value</a:t>
            </a:r>
            <a:endParaRPr b="1" lang="en-US" sz="2000" spc="-1" strike="noStrike">
              <a:solidFill>
                <a:srgbClr val="000000"/>
              </a:solidFill>
              <a:latin typeface="Arial"/>
            </a:endParaRPr>
          </a:p>
        </p:txBody>
      </p:sp>
      <p:sp>
        <p:nvSpPr>
          <p:cNvPr id="624" name=""/>
          <p:cNvSpPr txBox="1"/>
          <p:nvPr/>
        </p:nvSpPr>
        <p:spPr>
          <a:xfrm>
            <a:off x="762120" y="1295280"/>
            <a:ext cx="7696080" cy="51055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Valu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F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Rate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Assumption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Value Assumptions</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s</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 to EBITDA with alternative growth, premiums</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 relative to long-term and short-term growth</a:t>
            </a:r>
            <a:endParaRPr b="0" lang="en-US" sz="16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BO Value</a:t>
            </a:r>
            <a:endParaRPr b="0" lang="en-US" sz="18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a:t>
            </a:r>
            <a:endParaRPr b="0" lang="en-US" sz="1600" spc="-1" strike="noStrike">
              <a:solidFill>
                <a:srgbClr val="000000"/>
              </a:solidFill>
              <a:latin typeface="Arial"/>
            </a:endParaRPr>
          </a:p>
          <a:p>
            <a:pPr lvl="2" marL="1330200" indent="-2707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equity capital</a:t>
            </a:r>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um in Cadbury/Kraft</a:t>
            </a:r>
            <a:endParaRPr b="1" lang="en-US" sz="2000" spc="-1" strike="noStrike">
              <a:solidFill>
                <a:srgbClr val="000000"/>
              </a:solidFill>
              <a:latin typeface="Arial"/>
            </a:endParaRPr>
          </a:p>
        </p:txBody>
      </p:sp>
      <p:sp>
        <p:nvSpPr>
          <p:cNvPr id="62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closing share price of $29.58 per share of Kraft Foods common stock on the NYSE on January 15, 2010 (the last trading day prior to our announcement of the revised terms of the offer) and an exchange rate of $1.63 per £1.00, the offer represents a substantial premium to Cadbury’s unaffected share price. This premium is approximately:  </a:t>
            </a:r>
            <a:endParaRPr b="0" lang="en-US" sz="2000" spc="-1" strike="noStrike">
              <a:solidFill>
                <a:srgbClr val="000000"/>
              </a:solidFill>
              <a:latin typeface="Arial"/>
            </a:endParaRPr>
          </a:p>
          <a:p>
            <a:pPr marL="406440" indent="-406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 over the closing middle market price of 524 pence for Cadbury ordinary shares on the LSE on July 3, 2009, the last trading day prior to analyst suggestions regarding potential sector consolidation;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3% over the average daily closing middle market price for Cadbury ordinary shares on the LSE during the 90-day period ended on September 4, 2009, the last full trading day before our first public announcement of a possible offer for Cadbury, which was 555 pence per Cadbury ordinary share; </a:t>
            </a:r>
            <a:endParaRPr b="0" lang="en-US" sz="1800" spc="-1" strike="noStrike">
              <a:solidFill>
                <a:srgbClr val="000000"/>
              </a:solidFill>
              <a:latin typeface="Arial"/>
            </a:endParaRPr>
          </a:p>
          <a:p>
            <a:pPr lvl="1" marL="635040" indent="165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over the closing middle market price of 568 pence for Cadbury ordinary shares on the LSE on September 4, 2009.</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unds Used in Completing the Merger</a:t>
            </a:r>
            <a:endParaRPr b="1" lang="en-US" sz="2000" spc="-1" strike="noStrike">
              <a:solidFill>
                <a:srgbClr val="000000"/>
              </a:solidFill>
              <a:latin typeface="Arial"/>
            </a:endParaRPr>
          </a:p>
        </p:txBody>
      </p:sp>
      <p:sp>
        <p:nvSpPr>
          <p:cNvPr id="62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raft Investors Are Giving up to Get 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7 billion in cash.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5 billion worth of Kraft stock.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nsideration $19.42 Bill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billion to restructure Cadbury.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billion in taxes to sell the pizza busines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million to get the deal done. </a:t>
            </a:r>
            <a:endParaRPr b="0" lang="en-US" sz="18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 of Consider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Stand Alone Valuation</a:t>
            </a:r>
            <a:endParaRPr b="1"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63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CF Valuation</a:t>
            </a:r>
            <a:endParaRPr b="1" lang="en-US" sz="2000" spc="-1" strike="noStrike">
              <a:solidFill>
                <a:srgbClr val="000000"/>
              </a:solidFill>
              <a:latin typeface="Arial"/>
            </a:endParaRPr>
          </a:p>
        </p:txBody>
      </p:sp>
      <p:sp>
        <p:nvSpPr>
          <p:cNvPr id="633" name=""/>
          <p:cNvSpPr txBox="1"/>
          <p:nvPr/>
        </p:nvSpPr>
        <p:spPr>
          <a:xfrm>
            <a:off x="457200" y="1569960"/>
            <a:ext cx="8229600" cy="4525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Value of Cadbury using Cadbury Presentati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nd of 2008 as base perio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to current share price and offer price</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Position of Existing Shareholders in Relation to the Offer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DCF Value Using Different Growth Rates, Margin and Weighted Average Cost of Capital Assumption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Base Values</a:t>
            </a:r>
            <a:endParaRPr b="1" lang="en-US" sz="2000" spc="-1" strike="noStrike">
              <a:solidFill>
                <a:srgbClr val="000000"/>
              </a:solidFill>
              <a:latin typeface="Arial"/>
            </a:endParaRPr>
          </a:p>
        </p:txBody>
      </p:sp>
      <p:sp>
        <p:nvSpPr>
          <p:cNvPr id="63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with historic financial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statistic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growth (adjust for organic growth)</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margin (use EBITDA and separate depreci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sales (can be most important variable in model)</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ratio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rate and tax rat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istoric financial ratio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E, ROIC</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bury Base Data Operating Margin of 13.3% and Growth Rate of 11.1%</a:t>
            </a:r>
            <a:endParaRPr b="1" lang="en-US" sz="2800" spc="-1" strike="noStrike">
              <a:solidFill>
                <a:srgbClr val="000000"/>
              </a:solidFill>
              <a:latin typeface="Arial"/>
            </a:endParaRPr>
          </a:p>
        </p:txBody>
      </p:sp>
      <p:pic>
        <p:nvPicPr>
          <p:cNvPr id="637" name="Content Placeholder 3" descr=""/>
          <p:cNvPicPr/>
          <p:nvPr/>
        </p:nvPicPr>
        <p:blipFill>
          <a:blip r:embed="rId1"/>
          <a:stretch/>
        </p:blipFill>
        <p:spPr>
          <a:xfrm>
            <a:off x="1143000" y="1828800"/>
            <a:ext cx="6807240" cy="452592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argets When Contesting the Merger</a:t>
            </a:r>
            <a:endParaRPr b="1" lang="en-US" sz="2000" spc="-1" strike="noStrike">
              <a:solidFill>
                <a:srgbClr val="000000"/>
              </a:solidFill>
              <a:latin typeface="Arial"/>
            </a:endParaRPr>
          </a:p>
        </p:txBody>
      </p:sp>
      <p:pic>
        <p:nvPicPr>
          <p:cNvPr id="639" name="Content Placeholder 3" descr=""/>
          <p:cNvPicPr/>
          <p:nvPr/>
        </p:nvPicPr>
        <p:blipFill>
          <a:blip r:embed="rId1"/>
          <a:stretch/>
        </p:blipFill>
        <p:spPr>
          <a:xfrm>
            <a:off x="1357200" y="1600200"/>
            <a:ext cx="6872400" cy="483696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Guidance</a:t>
            </a:r>
            <a:endParaRPr b="1" lang="en-US" sz="2000" spc="-1" strike="noStrike">
              <a:solidFill>
                <a:srgbClr val="000000"/>
              </a:solidFill>
              <a:latin typeface="Arial"/>
            </a:endParaRPr>
          </a:p>
        </p:txBody>
      </p:sp>
      <p:pic>
        <p:nvPicPr>
          <p:cNvPr id="641" name="Picture 2" descr=""/>
          <p:cNvPicPr/>
          <p:nvPr/>
        </p:nvPicPr>
        <p:blipFill>
          <a:blip r:embed="rId1"/>
          <a:stretch/>
        </p:blipFill>
        <p:spPr>
          <a:xfrm>
            <a:off x="228600" y="1600200"/>
            <a:ext cx="8686800" cy="32241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said Kraft had made a mistake pursuing UK chocolate producer Cadbury - famous for its flak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ren Buffett said he "has a lot of doubts" about the takeover. Kraft will be paying 500 pence in cash plus 0.1874 of new Kraft shares for a Cadbury shar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Buffett also thinks Kraft's decision to sell its pizza business to Nestle in order to raise cash for the Cadbury bid, was a mistake. He said it was "enormously tax-inefficient" and cut the actual value of the deal from $US3.7 billion ($4 billion) to $US2.5 billion. The impression he gave was that he was not too impressed with the intelligence or business sense of the Kraft boar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and Tax Rate</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990720" y="1378080"/>
            <a:ext cx="7238880" cy="502272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Future Revenue Growth</a:t>
            </a:r>
            <a:endParaRPr b="1" lang="en-US" sz="2000" spc="-1" strike="noStrike">
              <a:solidFill>
                <a:srgbClr val="000000"/>
              </a:solidFill>
              <a:latin typeface="Arial"/>
            </a:endParaRPr>
          </a:p>
        </p:txBody>
      </p:sp>
      <p:sp>
        <p:nvSpPr>
          <p:cNvPr id="645" name=""/>
          <p:cNvSpPr txBox="1"/>
          <p:nvPr/>
        </p:nvSpPr>
        <p:spPr>
          <a:xfrm>
            <a:off x="761760" y="1295280"/>
            <a:ext cx="377172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Growth of 5-7% per yea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 in developed versus developing marke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growth prosp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 associated with aggressive growth strateg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4-6%</a:t>
            </a:r>
            <a:endParaRPr b="0" lang="en-US" sz="2000" spc="-1" strike="noStrike">
              <a:solidFill>
                <a:srgbClr val="000000"/>
              </a:solidFill>
              <a:latin typeface="Arial"/>
            </a:endParaRPr>
          </a:p>
        </p:txBody>
      </p:sp>
      <p:pic>
        <p:nvPicPr>
          <p:cNvPr id="646" name="Picture 3" descr=""/>
          <p:cNvPicPr/>
          <p:nvPr/>
        </p:nvPicPr>
        <p:blipFill>
          <a:blip r:embed="rId1"/>
          <a:stretch/>
        </p:blipFill>
        <p:spPr>
          <a:xfrm>
            <a:off x="4876920" y="1908000"/>
            <a:ext cx="4095720" cy="2484720"/>
          </a:xfrm>
          <a:prstGeom prst="rect">
            <a:avLst/>
          </a:prstGeom>
          <a:ln w="0">
            <a:noFill/>
          </a:ln>
        </p:spPr>
      </p:pic>
      <p:pic>
        <p:nvPicPr>
          <p:cNvPr id="647" name="Picture 5" descr=""/>
          <p:cNvPicPr/>
          <p:nvPr/>
        </p:nvPicPr>
        <p:blipFill>
          <a:blip r:embed="rId2"/>
          <a:stretch/>
        </p:blipFill>
        <p:spPr>
          <a:xfrm>
            <a:off x="762120" y="5105520"/>
            <a:ext cx="7772400" cy="112392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Confectionery Growth</a:t>
            </a:r>
            <a:endParaRPr b="1" lang="en-US" sz="2000" spc="-1" strike="noStrike">
              <a:solidFill>
                <a:srgbClr val="000000"/>
              </a:solidFill>
              <a:latin typeface="Arial"/>
            </a:endParaRPr>
          </a:p>
        </p:txBody>
      </p:sp>
      <p:pic>
        <p:nvPicPr>
          <p:cNvPr id="649" name="Picture 2" descr=""/>
          <p:cNvPicPr/>
          <p:nvPr/>
        </p:nvPicPr>
        <p:blipFill>
          <a:blip r:embed="rId1"/>
          <a:stretch/>
        </p:blipFill>
        <p:spPr>
          <a:xfrm>
            <a:off x="533520" y="1143000"/>
            <a:ext cx="6400800" cy="3429000"/>
          </a:xfrm>
          <a:prstGeom prst="rect">
            <a:avLst/>
          </a:prstGeom>
          <a:ln w="0">
            <a:noFill/>
          </a:ln>
        </p:spPr>
      </p:pic>
      <p:pic>
        <p:nvPicPr>
          <p:cNvPr id="650" name="Picture 4" descr=""/>
          <p:cNvPicPr/>
          <p:nvPr/>
        </p:nvPicPr>
        <p:blipFill>
          <a:blip r:embed="rId2"/>
          <a:stretch/>
        </p:blipFill>
        <p:spPr>
          <a:xfrm>
            <a:off x="3581280" y="4435560"/>
            <a:ext cx="4748400" cy="242244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Industry</a:t>
            </a:r>
            <a:endParaRPr b="1" lang="en-US" sz="2000" spc="-1" strike="noStrike">
              <a:solidFill>
                <a:srgbClr val="000000"/>
              </a:solidFill>
              <a:latin typeface="Arial"/>
            </a:endParaRPr>
          </a:p>
        </p:txBody>
      </p:sp>
      <p:pic>
        <p:nvPicPr>
          <p:cNvPr id="652" name="Picture 2" descr=""/>
          <p:cNvPicPr/>
          <p:nvPr/>
        </p:nvPicPr>
        <p:blipFill>
          <a:blip r:embed="rId1"/>
          <a:stretch/>
        </p:blipFill>
        <p:spPr>
          <a:xfrm>
            <a:off x="638280" y="1814400"/>
            <a:ext cx="7867440" cy="40957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EBIT Margins</a:t>
            </a:r>
            <a:endParaRPr b="1" lang="en-US" sz="2000" spc="-1" strike="noStrike">
              <a:solidFill>
                <a:srgbClr val="000000"/>
              </a:solidFill>
              <a:latin typeface="Arial"/>
            </a:endParaRPr>
          </a:p>
        </p:txBody>
      </p:sp>
      <p:sp>
        <p:nvSpPr>
          <p:cNvPr id="65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ed 16-18% Margi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Margin 10.0%</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Margin 11.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 Forecast Margin 13.2%</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ier Target was Mid-Tee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y in Increasing Margin and Revenue Growth at the Same Time</a:t>
            </a:r>
            <a:endParaRPr b="0" lang="en-US" sz="20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as Percent of Sales</a:t>
            </a:r>
            <a:endParaRPr b="1" lang="en-US" sz="2000" spc="-1" strike="noStrike">
              <a:solidFill>
                <a:srgbClr val="000000"/>
              </a:solidFill>
              <a:latin typeface="Arial"/>
            </a:endParaRPr>
          </a:p>
        </p:txBody>
      </p:sp>
      <p:pic>
        <p:nvPicPr>
          <p:cNvPr id="656" name="Content Placeholder 3" descr=""/>
          <p:cNvPicPr/>
          <p:nvPr/>
        </p:nvPicPr>
        <p:blipFill>
          <a:blip r:embed="rId1"/>
          <a:stretch/>
        </p:blipFill>
        <p:spPr>
          <a:xfrm>
            <a:off x="1149480" y="1600200"/>
            <a:ext cx="6845040" cy="452592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a:t>
            </a:r>
            <a:endParaRPr b="1" lang="en-US" sz="2000" spc="-1" strike="noStrike">
              <a:solidFill>
                <a:srgbClr val="000000"/>
              </a:solidFill>
              <a:latin typeface="Arial"/>
            </a:endParaRPr>
          </a:p>
        </p:txBody>
      </p:sp>
      <p:sp>
        <p:nvSpPr>
          <p:cNvPr id="65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 in 2008 was £500 million (2007: £409 million, 2006: £384 million), an increase of 22% over the level of expenditure in 2007. Key areas of capital expenditure increase related to investment in the production capacity and facilities of the Group, in particular UK chocolate production and gum capacity in Europe. All these projects were funded from internal resour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2009 we expect capital spend to be 5% of revenue on ongoing basis and an additional 2% of revenue incurred as part of our Vision into Action programme. </a:t>
            </a:r>
            <a:endParaRPr b="0" lang="en-US" sz="20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 Tax Rate and Shares</a:t>
            </a:r>
            <a:endParaRPr b="1" lang="en-US" sz="2000" spc="-1" strike="noStrike">
              <a:solidFill>
                <a:srgbClr val="000000"/>
              </a:solidFill>
              <a:latin typeface="Arial"/>
            </a:endParaRPr>
          </a:p>
        </p:txBody>
      </p:sp>
      <p:pic>
        <p:nvPicPr>
          <p:cNvPr id="660" name="Picture 2" descr=""/>
          <p:cNvPicPr/>
          <p:nvPr/>
        </p:nvPicPr>
        <p:blipFill>
          <a:blip r:embed="rId1"/>
          <a:stretch/>
        </p:blipFill>
        <p:spPr>
          <a:xfrm>
            <a:off x="958680" y="1600200"/>
            <a:ext cx="7226640" cy="452592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on Invested Capital</a:t>
            </a:r>
            <a:endParaRPr b="1" lang="en-US" sz="2000" spc="-1" strike="noStrike">
              <a:solidFill>
                <a:srgbClr val="000000"/>
              </a:solidFill>
              <a:latin typeface="Arial"/>
            </a:endParaRPr>
          </a:p>
        </p:txBody>
      </p:sp>
      <p:pic>
        <p:nvPicPr>
          <p:cNvPr id="662" name="Picture 2" descr=""/>
          <p:cNvPicPr/>
          <p:nvPr/>
        </p:nvPicPr>
        <p:blipFill>
          <a:blip r:embed="rId1"/>
          <a:stretch/>
        </p:blipFill>
        <p:spPr>
          <a:xfrm>
            <a:off x="1154160" y="1600200"/>
            <a:ext cx="6835680" cy="45259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Confectionary Industry</a:t>
            </a:r>
            <a:endParaRPr b="1" lang="en-US" sz="2000" spc="-1" strike="noStrike">
              <a:solidFill>
                <a:srgbClr val="000000"/>
              </a:solidFill>
              <a:latin typeface="Arial"/>
            </a:endParaRPr>
          </a:p>
        </p:txBody>
      </p:sp>
      <p:pic>
        <p:nvPicPr>
          <p:cNvPr id="664" name="Picture 2" descr=""/>
          <p:cNvPicPr/>
          <p:nvPr/>
        </p:nvPicPr>
        <p:blipFill>
          <a:blip r:embed="rId1"/>
          <a:stretch/>
        </p:blipFill>
        <p:spPr>
          <a:xfrm>
            <a:off x="638280" y="1658880"/>
            <a:ext cx="7458120" cy="4665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a:t>
            </a:r>
            <a:endParaRPr b="1" lang="en-US" sz="2000" spc="-1" strike="noStrike">
              <a:solidFill>
                <a:srgbClr val="000000"/>
              </a:solidFill>
              <a:latin typeface="Arial"/>
            </a:endParaRPr>
          </a:p>
        </p:txBody>
      </p:sp>
      <p:sp>
        <p:nvSpPr>
          <p:cNvPr id="5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poorer…in the last two weeks there’s been two things that caused me to feel poorer. </a:t>
            </a:r>
            <a:endParaRPr b="0" lang="en-US" sz="24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old a very fine pizza business and they said that they got 3.7 billion for it. But because it had practically no tax basis they really got about 2.5 billion.  (32% tax rate)</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y sold a business for 2.5 billion that Nestle (NSRGY) is willing to pay 3.7 billion for. </a:t>
            </a:r>
            <a:endParaRPr b="0" lang="en-US" sz="20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can Nestle run it that much better than Kraft? I doubt it. </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at business was sold for 2.5 billion (and) earned 280 million pre-tax last year. So they sold that…right around 9 times pre-tax earnings. </a:t>
            </a:r>
            <a:endParaRPr b="0" lang="en-US" sz="16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times earnings pre-tax and 9 times earnings after tax</a:t>
            </a:r>
            <a:endParaRPr b="0" lang="en-US" sz="20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6440" indent="-406440">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crease in Sales</a:t>
            </a:r>
            <a:endParaRPr b="1" lang="en-US" sz="2000" spc="-1" strike="noStrike">
              <a:solidFill>
                <a:srgbClr val="000000"/>
              </a:solidFill>
              <a:latin typeface="Arial"/>
            </a:endParaRPr>
          </a:p>
        </p:txBody>
      </p:sp>
      <p:pic>
        <p:nvPicPr>
          <p:cNvPr id="666" name="Picture 2" descr=""/>
          <p:cNvPicPr/>
          <p:nvPr/>
        </p:nvPicPr>
        <p:blipFill>
          <a:blip r:embed="rId1"/>
          <a:stretch/>
        </p:blipFill>
        <p:spPr>
          <a:xfrm>
            <a:off x="1598760" y="1600200"/>
            <a:ext cx="5946480" cy="452592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Forecasts</a:t>
            </a:r>
            <a:endParaRPr b="1" lang="en-US" sz="2000" spc="-1" strike="noStrike">
              <a:solidFill>
                <a:srgbClr val="000000"/>
              </a:solidFill>
              <a:latin typeface="Arial"/>
            </a:endParaRPr>
          </a:p>
        </p:txBody>
      </p:sp>
      <p:pic>
        <p:nvPicPr>
          <p:cNvPr id="668" name="Picture 2" descr=""/>
          <p:cNvPicPr/>
          <p:nvPr/>
        </p:nvPicPr>
        <p:blipFill>
          <a:blip r:embed="rId1"/>
          <a:stretch/>
        </p:blipFill>
        <p:spPr>
          <a:xfrm>
            <a:off x="1295280" y="1506600"/>
            <a:ext cx="6400800" cy="48290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scount Rate in Goodwill Analysis</a:t>
            </a:r>
            <a:endParaRPr b="1" lang="en-US" sz="2000" spc="-1" strike="noStrike">
              <a:solidFill>
                <a:srgbClr val="000000"/>
              </a:solidFill>
              <a:latin typeface="Arial"/>
            </a:endParaRPr>
          </a:p>
        </p:txBody>
      </p:sp>
      <p:sp>
        <p:nvSpPr>
          <p:cNvPr id="670" name=""/>
          <p:cNvSpPr txBox="1"/>
          <p:nvPr/>
        </p:nvSpPr>
        <p:spPr>
          <a:xfrm>
            <a:off x="762120" y="1295280"/>
            <a:ext cx="7696080" cy="5105520"/>
          </a:xfrm>
          <a:prstGeom prst="rect">
            <a:avLst/>
          </a:prstGeom>
          <a:noFill/>
          <a:ln w="0">
            <a:noFill/>
          </a:ln>
        </p:spPr>
        <p:txBody>
          <a:bodyPr lIns="92160" rIns="92160" tIns="46080" bIns="46080" anchor="t">
            <a:normAutofit fontScale="95000"/>
          </a:bodyPr>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tests goodwill annually for impairment, or more frequently if there are indications that goodwill might be impaired. The recoverable amounts of the cash generating units (CGUs) to which goodwill has been allocated are determined based on value in use calculations which are the present value of the future cash flows expected to be obtained from the CGU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assumptions for the value in use calculations for all CGUs are those regarding discount rates, long-term growth rates and expected changes to the cash flows generated by the CGU during the period. Initially a post-tax discount rate based on the Group’s weighted average cost of capital of 8%, adjusted where appropriate for country specific risks, is applied to calculate the net present value of the post-tax cash flows. If this indicates that the recoverable value of the unit is close to or below its carrying value, the impairment test is re-performed using a pre-tax discount rate and pre-tax cash flows in order to determine if an impairment exists and to establish its magnitude. Changes to the cash flows are determined for each CGU and are based on local management forecasts, past performance and the impact of Group strategies such as focus brands and markets. </a:t>
            </a:r>
            <a:endParaRPr b="0" lang="en-US" sz="1400" spc="-1" strike="noStrike">
              <a:solidFill>
                <a:srgbClr val="000000"/>
              </a:solidFill>
              <a:latin typeface="Arial"/>
            </a:endParaRPr>
          </a:p>
          <a:p>
            <a:pPr marL="385920" indent="-3859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p prepares cash flow forecasts derived from the most recent financial budgets approved by management for the next four years and extrapolates cash flows for no more than a further five years, using a steady growth rate applicable to the relevant market. During this five year period the growth rate for developed markets is forecast inflation and for emerging markets is the forecast GDP growth of the relevant countries. This rate does not exceed the average long-term growth rate for the relevant markets. The cash flows are assumed to continue in perpetuity at the long-term growth rate for the relevant countries, which are based on external industry forecasts of inflation. </a:t>
            </a:r>
            <a:endParaRPr b="0" lang="en-US" sz="14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pplied</a:t>
            </a:r>
            <a:endParaRPr b="1" lang="en-US" sz="2000" spc="-1" strike="noStrike">
              <a:solidFill>
                <a:srgbClr val="000000"/>
              </a:solidFill>
              <a:latin typeface="Arial"/>
            </a:endParaRPr>
          </a:p>
        </p:txBody>
      </p:sp>
      <p:pic>
        <p:nvPicPr>
          <p:cNvPr id="672" name="Picture 2" descr=""/>
          <p:cNvPicPr/>
          <p:nvPr/>
        </p:nvPicPr>
        <p:blipFill>
          <a:blip r:embed="rId1"/>
          <a:stretch/>
        </p:blipFill>
        <p:spPr>
          <a:xfrm>
            <a:off x="838080" y="2438280"/>
            <a:ext cx="7685280" cy="1144800"/>
          </a:xfrm>
          <a:prstGeom prst="rect">
            <a:avLst/>
          </a:prstGeom>
          <a:ln w="0">
            <a:noFill/>
          </a:ln>
        </p:spPr>
      </p:pic>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 Betas</a:t>
            </a:r>
            <a:endParaRPr b="1" lang="en-US" sz="2000" spc="-1" strike="noStrike">
              <a:solidFill>
                <a:srgbClr val="000000"/>
              </a:solidFill>
              <a:latin typeface="Arial"/>
            </a:endParaRPr>
          </a:p>
        </p:txBody>
      </p:sp>
      <p:pic>
        <p:nvPicPr>
          <p:cNvPr id="674"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Rates</a:t>
            </a:r>
            <a:endParaRPr b="1" lang="en-US" sz="2000" spc="-1" strike="noStrike">
              <a:solidFill>
                <a:srgbClr val="000000"/>
              </a:solidFill>
              <a:latin typeface="Arial"/>
            </a:endParaRPr>
          </a:p>
        </p:txBody>
      </p:sp>
      <p:pic>
        <p:nvPicPr>
          <p:cNvPr id="676"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Using Alternative Methods</a:t>
            </a:r>
            <a:endParaRPr b="1" lang="en-US" sz="2000" spc="-1" strike="noStrike">
              <a:solidFill>
                <a:srgbClr val="000000"/>
              </a:solidFill>
              <a:latin typeface="Arial"/>
            </a:endParaRPr>
          </a:p>
        </p:txBody>
      </p:sp>
      <p:pic>
        <p:nvPicPr>
          <p:cNvPr id="678" name="Picture 2" descr=""/>
          <p:cNvPicPr/>
          <p:nvPr/>
        </p:nvPicPr>
        <p:blipFill>
          <a:blip r:embed="rId1"/>
          <a:stretch/>
        </p:blipFill>
        <p:spPr>
          <a:xfrm>
            <a:off x="1095480" y="1295280"/>
            <a:ext cx="7029360" cy="51055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a:t>
            </a:r>
            <a:endParaRPr b="1" lang="en-US" sz="20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BITDA Multiple</a:t>
            </a:r>
            <a:endParaRPr b="1" lang="en-US" sz="2000" spc="-1" strike="noStrike">
              <a:solidFill>
                <a:srgbClr val="000000"/>
              </a:solidFill>
              <a:latin typeface="Arial"/>
            </a:endParaRPr>
          </a:p>
        </p:txBody>
      </p:sp>
      <p:sp>
        <p:nvSpPr>
          <p:cNvPr id="68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closing share price of $29.58 per share of Kraft Foods common stock on January 15, 2010 (the last trading day prior to our announcement of the revised terms of the offer),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change rate of $1.63 per £1.00 (as quoted by WM/Reuters on January 18, 2010, the day prior to our announcement of the revised terms of the offer).</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erprise value multiple is calculated assuming the exercise of all share options and vesting of all share awards held under Cadbury’s share schemes.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 to EBITDA in Transaction</a:t>
            </a:r>
            <a:endParaRPr b="1" lang="en-US" sz="2000" spc="-1" strike="noStrike">
              <a:solidFill>
                <a:srgbClr val="000000"/>
              </a:solidFill>
              <a:latin typeface="Arial"/>
            </a:endParaRPr>
          </a:p>
        </p:txBody>
      </p:sp>
      <p:sp>
        <p:nvSpPr>
          <p:cNvPr id="683" name=""/>
          <p:cNvSpPr txBox="1"/>
          <p:nvPr/>
        </p:nvSpPr>
        <p:spPr>
          <a:xfrm>
            <a:off x="533160" y="1218960"/>
            <a:ext cx="4343400" cy="510516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equates to an enterprise value multiple of 13.0 times Cadbury’s “underlying” 2009 EBITDA based on the closing share price of $29.58 per share of Kraft Foods common stock on January 15, 2010 (the last trading day prior to our announcement ) and an exchange rate of $1.63 per £1.00.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erprise value multiple is calculated assuming the exercise of all share options and vesting of all share awards held under Cadbury’s share schemes. </a:t>
            </a:r>
            <a:endParaRPr b="0" lang="en-US" sz="2000" spc="-1" strike="noStrike">
              <a:solidFill>
                <a:srgbClr val="000000"/>
              </a:solidFill>
              <a:latin typeface="Arial"/>
            </a:endParaRPr>
          </a:p>
        </p:txBody>
      </p:sp>
      <p:pic>
        <p:nvPicPr>
          <p:cNvPr id="684" name="Picture 2" descr=""/>
          <p:cNvPicPr/>
          <p:nvPr/>
        </p:nvPicPr>
        <p:blipFill>
          <a:blip r:embed="rId1"/>
          <a:stretch/>
        </p:blipFill>
        <p:spPr>
          <a:xfrm>
            <a:off x="5257800" y="2057400"/>
            <a:ext cx="3395520" cy="32734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en Buffet Comments on EV/EBITDA</a:t>
            </a:r>
            <a:endParaRPr b="1" lang="en-US" sz="2000" spc="-1" strike="noStrike">
              <a:solidFill>
                <a:srgbClr val="000000"/>
              </a:solidFill>
              <a:latin typeface="Arial"/>
            </a:endParaRPr>
          </a:p>
        </p:txBody>
      </p:sp>
      <p:sp>
        <p:nvSpPr>
          <p:cNvPr id="597"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Kraft mention paying 13 times EBITDA (Earnings Before Interest Taxes Depreciation and Amortization) for Cadbury but they’re paying more than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e ting EBITDA is not the same as earnings. Depreciation is a very real expense. </a:t>
            </a:r>
            <a:endParaRPr b="0" lang="en-US" sz="20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on top of that they’ve got 1.3 billion they’re going to spend in terms of rearrangements of Cadbury.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ve got 390 million of deal expenses. </a:t>
            </a:r>
            <a:endParaRPr b="0" lang="en-US" sz="1600" spc="-1" strike="noStrike">
              <a:solidFill>
                <a:srgbClr val="000000"/>
              </a:solidFill>
              <a:latin typeface="Arial"/>
            </a:endParaRPr>
          </a:p>
          <a:p>
            <a:pPr lvl="1" marL="622080" indent="1616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using their own stock - 260 million shares or something like that - (which) their own directors say is significantly undervalued. When they calculate that 13 (times EBITDA) they’re calculating Kraft at market price not at what their own directors think the stock is worth. </a:t>
            </a:r>
            <a:endParaRPr b="0" lang="en-US" sz="16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ctual multiple if you look at the value of Kraft stock is more like 16 or 17 and they sold earnings at 9 times. It’s hard to get rich doing that. </a:t>
            </a:r>
            <a:endParaRPr b="0" lang="en-US" sz="2000" spc="-1" strike="noStrike">
              <a:solidFill>
                <a:srgbClr val="000000"/>
              </a:solidFill>
              <a:latin typeface="Arial"/>
            </a:endParaRPr>
          </a:p>
          <a:p>
            <a:pPr marL="398160" indent="-398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BITDA versus Earnings</a:t>
            </a:r>
            <a:endParaRPr b="1" lang="en-US" sz="2000" spc="-1" strike="noStrike">
              <a:solidFill>
                <a:srgbClr val="000000"/>
              </a:solidFill>
              <a:latin typeface="Arial"/>
            </a:endParaRPr>
          </a:p>
        </p:txBody>
      </p:sp>
      <p:sp>
        <p:nvSpPr>
          <p:cNvPr id="68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 multiple of Cadbury’s underlying EBITDA under IFR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underlying EBITDA facilitates operating performance comparisons from period to period and company to company</a:t>
            </a:r>
            <a:endParaRPr b="0" lang="en-US" sz="16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y eliminating potential differences caused by variations in capital structures (affecting interest expense),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positions (such as the impact on periods or companies of changes in effective tax rates or net operating losses) and </a:t>
            </a:r>
            <a:endParaRPr b="0" lang="en-US" sz="1400" spc="-1" strike="noStrike">
              <a:solidFill>
                <a:srgbClr val="000000"/>
              </a:solidFill>
              <a:latin typeface="Arial"/>
            </a:endParaRPr>
          </a:p>
          <a:p>
            <a:pPr lvl="1" marL="635040" indent="1652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e and book depreciation of tangible assets (affecting relative depreciation expense). </a:t>
            </a:r>
            <a:endParaRPr b="0" lang="en-US" sz="14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presented the offer by referring to an enterprise multiple of Cadbury’s underlying EBITDA because we believe securities analysts, investors and other interested parties frequently use it to evaluate similar issuers.</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Divestiture</a:t>
            </a:r>
            <a:endParaRPr b="1" lang="en-US" sz="2000" spc="-1" strike="noStrike">
              <a:solidFill>
                <a:srgbClr val="000000"/>
              </a:solidFill>
              <a:latin typeface="Arial"/>
            </a:endParaRPr>
          </a:p>
        </p:txBody>
      </p:sp>
      <p:pic>
        <p:nvPicPr>
          <p:cNvPr id="688" name="Picture 4" descr=""/>
          <p:cNvPicPr/>
          <p:nvPr/>
        </p:nvPicPr>
        <p:blipFill>
          <a:blip r:embed="rId1"/>
          <a:stretch/>
        </p:blipFill>
        <p:spPr>
          <a:xfrm>
            <a:off x="950760" y="1569960"/>
            <a:ext cx="7242480" cy="452592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Multiples</a:t>
            </a:r>
            <a:endParaRPr b="1" lang="en-US" sz="2000" spc="-1" strike="noStrike">
              <a:solidFill>
                <a:srgbClr val="000000"/>
              </a:solidFill>
              <a:latin typeface="Arial"/>
            </a:endParaRPr>
          </a:p>
        </p:txBody>
      </p:sp>
      <p:sp>
        <p:nvSpPr>
          <p:cNvPr id="69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Foods common stock has historically traded on a current year price earnings multiple broadly in line with that of the S&amp;P 500 Index.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Kraft Foods’ own guidance for its 2009 diluted earnings per share of at least $2.00, Kraft Foods’ historical 2009 price earnings multiple is 14.8 times as at January 15, 2010.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storical 2009 price earnings multiple of the S&amp;P 500 Index is 24.4 times as at the same date; </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s for Comparative Companies</a:t>
            </a:r>
            <a:endParaRPr b="1" lang="en-US" sz="2000" spc="-1" strike="noStrike">
              <a:solidFill>
                <a:srgbClr val="000000"/>
              </a:solidFill>
              <a:latin typeface="Arial"/>
            </a:endParaRPr>
          </a:p>
        </p:txBody>
      </p:sp>
      <p:pic>
        <p:nvPicPr>
          <p:cNvPr id="692" name="Picture 2" descr=""/>
          <p:cNvPicPr/>
          <p:nvPr/>
        </p:nvPicPr>
        <p:blipFill>
          <a:blip r:embed="rId1"/>
          <a:stretch/>
        </p:blipFill>
        <p:spPr>
          <a:xfrm>
            <a:off x="1106640" y="1295280"/>
            <a:ext cx="7007040" cy="51055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Forecast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Growth and Margins</a:t>
            </a:r>
            <a:endParaRPr b="1" lang="en-US" sz="2000" spc="-1" strike="noStrike">
              <a:solidFill>
                <a:srgbClr val="000000"/>
              </a:solidFill>
              <a:latin typeface="Arial"/>
            </a:endParaRPr>
          </a:p>
        </p:txBody>
      </p:sp>
      <p:sp>
        <p:nvSpPr>
          <p:cNvPr id="69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9, we said we would focus on building our profit margins and market share. As we’ve done this, we strengthened the foundation underlying our long-term model that targeted EPS growth of 7 to 9 percent in our base busi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gan our turnaround by decentralizing and aligning our businesses and functions with common incentives. Specifically, our business leaders focus on three simple metrics: revenue growth, income growth and cash flow, and we’ve made excellent progress on each: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2006, we’ve averaged 4.5 percent organic revenue growth per year.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higher than our long-term target of 4 percent or mo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ve grown operating income 10 percent per year on average and raised our operating income margin to 13.7 percent, up from 12.6 percent in 2006.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generated free cash flow equal to 124 percent of our net earnings in 2009, up from 83 percent in 2006.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Projected Expenses and Margins</a:t>
            </a:r>
            <a:endParaRPr b="1" lang="en-US" sz="2000" spc="-1" strike="noStrike">
              <a:solidFill>
                <a:srgbClr val="000000"/>
              </a:solidFill>
              <a:latin typeface="Arial"/>
            </a:endParaRPr>
          </a:p>
        </p:txBody>
      </p:sp>
      <p:sp>
        <p:nvSpPr>
          <p:cNvPr id="69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anded both gross and operating margins, while continuing to invest in future growth. We increased our advertising and consumer spending (A&amp;C) to 7.2 percent of net revenues, up from 6.7 percent in 2008, en route to our long-term target of 8-9 percent of revenue. What’s more, A&amp;C spending increased, even though advertising rates came down considerably year over year.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made good progress toward our goal of restoring our profit margins to industry benchmarks, while still investing significantly in productivity and brand building. In fact, we improved our operating margin year-over-year in every quarter of 2009.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Background</a:t>
            </a:r>
            <a:endParaRPr b="1" lang="en-US" sz="2000" spc="-1" strike="noStrike">
              <a:solidFill>
                <a:srgbClr val="000000"/>
              </a:solidFill>
              <a:latin typeface="Arial"/>
            </a:endParaRPr>
          </a:p>
        </p:txBody>
      </p:sp>
      <p:sp>
        <p:nvSpPr>
          <p:cNvPr id="6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orld’s second largest food company, with 2008 revenues of $41.9 billion, we have significant global scale, with operations in more than 70 countries.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United States is a key market and we are the number one food company there based on retail sales,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approximately half of our revenues from outside the United States in 2008 and sell our products in approximately 150 countries around the world. </a:t>
            </a:r>
            <a:endParaRPr b="0" lang="en-US" sz="18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Historic Growth Rate</a:t>
            </a:r>
            <a:endParaRPr b="1" lang="en-US" sz="2000" spc="-1" strike="noStrike">
              <a:solidFill>
                <a:srgbClr val="000000"/>
              </a:solidFill>
              <a:latin typeface="Arial"/>
            </a:endParaRPr>
          </a:p>
        </p:txBody>
      </p:sp>
      <p:pic>
        <p:nvPicPr>
          <p:cNvPr id="701" name="Picture 2" descr=""/>
          <p:cNvPicPr/>
          <p:nvPr/>
        </p:nvPicPr>
        <p:blipFill>
          <a:blip r:embed="rId1"/>
          <a:stretch/>
        </p:blipFill>
        <p:spPr>
          <a:xfrm>
            <a:off x="406440" y="1905120"/>
            <a:ext cx="8204040" cy="3792240"/>
          </a:xfrm>
          <a:prstGeom prst="rect">
            <a:avLst/>
          </a:prstGeom>
          <a:ln w="0">
            <a:noFill/>
          </a:ln>
        </p:spPr>
      </p:pic>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Forecasts</a:t>
            </a:r>
            <a:endParaRPr b="1" lang="en-US" sz="2000" spc="-1" strike="noStrike">
              <a:solidFill>
                <a:srgbClr val="000000"/>
              </a:solidFill>
              <a:latin typeface="Arial"/>
            </a:endParaRPr>
          </a:p>
        </p:txBody>
      </p:sp>
      <p:pic>
        <p:nvPicPr>
          <p:cNvPr id="703" name="Picture 2" descr=""/>
          <p:cNvPicPr/>
          <p:nvPr/>
        </p:nvPicPr>
        <p:blipFill>
          <a:blip r:embed="rId1"/>
          <a:stretch/>
        </p:blipFill>
        <p:spPr>
          <a:xfrm>
            <a:off x="762120" y="1582560"/>
            <a:ext cx="7696080" cy="453096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 Original Offer</a:t>
            </a:r>
            <a:endParaRPr b="1" lang="en-US" sz="2000" spc="-1" strike="noStrike">
              <a:solidFill>
                <a:srgbClr val="000000"/>
              </a:solidFill>
              <a:latin typeface="Arial"/>
            </a:endParaRPr>
          </a:p>
        </p:txBody>
      </p:sp>
      <p:sp>
        <p:nvSpPr>
          <p:cNvPr id="59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ugust 28, 2009, Ms. Rosenfeld met with Mr. Roger Carr, the Chairman of Cadbury, in London to express our interest in pursuing a business combination with Cadbury.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Rosenfeld informed Mr. Carr that our board of directors had authorized her to make a proposal to acquire all of the outstanding Cadbury ordinary shares for 300 pence in cash and 0.2589 new shares of Kraft Foods common stock per Cadbury ordinary share.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presented a 43% Premium to the Stock Price before the merger</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Standalone Model</a:t>
            </a:r>
            <a:endParaRPr b="1" lang="en-US" sz="2000" spc="-1" strike="noStrike">
              <a:solidFill>
                <a:srgbClr val="000000"/>
              </a:solidFill>
              <a:latin typeface="Arial"/>
            </a:endParaRPr>
          </a:p>
        </p:txBody>
      </p:sp>
      <p:pic>
        <p:nvPicPr>
          <p:cNvPr id="705" name="Picture 3" descr=""/>
          <p:cNvPicPr/>
          <p:nvPr/>
        </p:nvPicPr>
        <p:blipFill>
          <a:blip r:embed="rId1"/>
          <a:stretch/>
        </p:blipFill>
        <p:spPr>
          <a:xfrm>
            <a:off x="838080" y="1676520"/>
            <a:ext cx="6962760" cy="479412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of Transaction</a:t>
            </a:r>
            <a:endParaRPr b="1" lang="en-US" sz="2000" spc="-1" strike="noStrike">
              <a:solidFill>
                <a:srgbClr val="000000"/>
              </a:solidFill>
              <a:latin typeface="Arial"/>
            </a:endParaRPr>
          </a:p>
        </p:txBody>
      </p:sp>
      <p:sp>
        <p:nvSpPr>
          <p:cNvPr id="707"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November 9, 2009, we entered into an agreement (the “Loan Agreement”) for a senior unsecured term loan facility with, among others, the lenders listed below, Citigroup Global Markets Inc., Deutsche Bank Securities Inc. and HSBC Securities (USA) Inc., as joint bookrunners and Citibank, N.A. and Deutsche Bank AG Cayman Islands Branch, as co-administrative agent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originally provided for borrowings by us and certain of our subsidiaries that may be designated by us in an aggregate principal amount of up to £5.5 billion.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January 18, 2010, the Loan Agreement was amended to increase the loan facility of £5.5 billion to an aggregate of £7.1 billion. Under the Loan Agreement, we guarantee the obligations of any subsidiary borrower.</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ings under the bridge facility will bear interest at a variable annual rate based on (a) LIBOR for borrowings in pounds sterling, (b) LIBOR or base rate, at our election, for borrowings in U.S. dollars and (c) EURIBOR for borrowings in euros, plus in each case an applicable margin based on the credit rating at that time for our long-term senior unsecured indebtedness. The Loan Agreement has a maturity date of 364 days following the initial borrowing thereunder. </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 in the Loan Agreement</a:t>
            </a:r>
            <a:endParaRPr b="1" lang="en-US" sz="2000" spc="-1" strike="noStrike">
              <a:solidFill>
                <a:srgbClr val="000000"/>
              </a:solidFill>
              <a:latin typeface="Arial"/>
            </a:endParaRPr>
          </a:p>
        </p:txBody>
      </p:sp>
      <p:sp>
        <p:nvSpPr>
          <p:cNvPr id="70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requires the maintenance of a minimum total shareholders’ equity of not less than $23 billion, which minimum level would be increased, in the event of completion of the offer, by 75% of any increase in such total shareholders’ equity as a direct result of certain issuances by Kraft Foods of equity securities to finance the acquisition of Cadbury or to refinance certain indebtedness.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in the event that our long-term senior unsecured indebtedness is rated below investment grade (or not rated) by either Moody’s or S&amp;P, the Loan Agreement requires us to maintain a leverage ratio (measured by the ratio of the total indebtedness (net of cash and cash equivalents) of Kraft Foods and its subsidiaries to the adjusted EBITDA of Kraft Foods and its subsidiaries) of not more than 4.25 to 1.00.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Agreement also contains customary representations, covenants and events of default and requires the prepayment of advances and/or the permanent reduction of commitments under the bridge facility with the net cash proceeds received from certain disposals, debt issuances and equity capital markets transactions. </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Capital Structure after Transaction</a:t>
            </a:r>
            <a:endParaRPr b="1" lang="en-US" sz="2000" spc="-1" strike="noStrike">
              <a:solidFill>
                <a:srgbClr val="000000"/>
              </a:solidFill>
              <a:latin typeface="Arial"/>
            </a:endParaRPr>
          </a:p>
        </p:txBody>
      </p:sp>
      <p:pic>
        <p:nvPicPr>
          <p:cNvPr id="711" name="Picture 2" descr=""/>
          <p:cNvPicPr/>
          <p:nvPr/>
        </p:nvPicPr>
        <p:blipFill>
          <a:blip r:embed="rId1"/>
          <a:stretch/>
        </p:blipFill>
        <p:spPr>
          <a:xfrm>
            <a:off x="785880" y="1600200"/>
            <a:ext cx="7572240" cy="45259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ar Term Accretion and Dilution</a:t>
            </a:r>
            <a:endParaRPr b="1" lang="en-US" sz="2000" spc="-1" strike="noStrike">
              <a:solidFill>
                <a:srgbClr val="000000"/>
              </a:solidFill>
              <a:latin typeface="Arial"/>
            </a:endParaRPr>
          </a:p>
        </p:txBody>
      </p:sp>
      <p:pic>
        <p:nvPicPr>
          <p:cNvPr id="713" name="Picture 2" descr=""/>
          <p:cNvPicPr/>
          <p:nvPr/>
        </p:nvPicPr>
        <p:blipFill>
          <a:blip r:embed="rId1"/>
          <a:stretch/>
        </p:blipFill>
        <p:spPr>
          <a:xfrm>
            <a:off x="1414440" y="1600200"/>
            <a:ext cx="6315120" cy="45259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t Sales</a:t>
            </a:r>
            <a:endParaRPr b="1" lang="en-US" sz="2000" spc="-1" strike="noStrike">
              <a:solidFill>
                <a:srgbClr val="000000"/>
              </a:solidFill>
              <a:latin typeface="Arial"/>
            </a:endParaRPr>
          </a:p>
        </p:txBody>
      </p:sp>
      <p:sp>
        <p:nvSpPr>
          <p:cNvPr id="715"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has sold its North American frozen pizza operations to Nestle for about $3.7 billion in cash, and the company is turning around and using this cash to boost the cash portion of its Cadbury acquisition.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nings from Pizza Business</a:t>
            </a:r>
            <a:endParaRPr b="1" lang="en-US" sz="2000" spc="-1" strike="noStrike">
              <a:solidFill>
                <a:srgbClr val="000000"/>
              </a:solidFill>
              <a:latin typeface="Arial"/>
            </a:endParaRPr>
          </a:p>
        </p:txBody>
      </p:sp>
      <p:pic>
        <p:nvPicPr>
          <p:cNvPr id="717" name="Picture 2" descr=""/>
          <p:cNvPicPr/>
          <p:nvPr/>
        </p:nvPicPr>
        <p:blipFill>
          <a:blip r:embed="rId1"/>
          <a:stretch/>
        </p:blipFill>
        <p:spPr>
          <a:xfrm>
            <a:off x="455760" y="2819520"/>
            <a:ext cx="8334360" cy="1911240"/>
          </a:xfrm>
          <a:prstGeom prst="rect">
            <a:avLst/>
          </a:prstGeom>
          <a:ln w="0">
            <a:noFill/>
          </a:ln>
        </p:spPr>
      </p:pic>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a:t>
            </a:r>
            <a:endParaRPr b="1" lang="en-US" sz="2000" spc="-1" strike="noStrike">
              <a:solidFill>
                <a:srgbClr val="000000"/>
              </a:solidFill>
              <a:latin typeface="Arial"/>
            </a:endParaRPr>
          </a:p>
        </p:txBody>
      </p:sp>
      <p:sp>
        <p:nvSpPr>
          <p:cNvPr id="719"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purposes of the pro forma analysis, the intangible assets of Cadbury have been increased $3,470 million to a total value of $5,000 million to reflect our preliminary estimate of the fair value of intangible assets, including trade names and customer lists. </a:t>
            </a:r>
            <a:endParaRPr b="0" lang="en-US" sz="1000" spc="-1" strike="noStrike">
              <a:solidFill>
                <a:srgbClr val="000000"/>
              </a:solidFill>
              <a:latin typeface="Arial"/>
            </a:endParaRPr>
          </a:p>
          <a:p>
            <a:pPr marL="406440" indent="-406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ferred tax liability of $1,042 million was recorded in connection with this increase. No other adjustment was made to the assets and liabilities of Cadbury to reflect their fair valu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will was increased $9,821 million to reflect the total excess of the purchase consideration over the fair value of the assets acquired of $15,943 mill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ccount for the acquisition of Cadbury pursuant to the offer in accordance with U.S. GAAP, as treated within the acquisition method of accounting for business combinations. Under this method of accounting, we will record the exchange of Cadbury ordinary shares, for Kraft Foods common stock based on the fair value of the consideration given, which is the market value of Kraft Foods common stock issued in connection with the offer (based on the closing share price ) and the cash consideration paid in the offer, as the purchase price of Cadbury.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ill allocate the purchase price to the net tangible and identifiable intangible assets acquired and liabilities assumed based on their respective fair values at the date the minimum acceptance condition is satisfied. Any excess of the purchase price over those fair values will be recorded as goodwill.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e lived intangible assets will be amortized over their estimated useful lives. Intangible assets with indefinite useful lives and goodwill will not be amortized but will be tested for impairment at least annually. All intangible assets and goodwill are also tested for impairment when certain indicators are present. If in the future, we determined that intangible assets or goodwill are impaired, an impairment charge would be recorded at that time.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chase price allocation reflected in the pro forma information included in this prospectus/offer to exchange is based on preliminary assumptions. The amount of the estimated purchase price allocated to goodwill and intangibles is approximately $20.9 billion. The final purchase price allocation, which will be based in part on detailed valuation studies which have not yet been completed, may result in an increase or decrease in finite-lived  intangible assets which could result in a material increase or decrease in the estimated amortization of intangible assets included in the pro forma information included in this prospectus/offer to exchange. We expect to complete the final purchase price allocation no later than 12 months following the date the minimum acceptance condition is satisfied or we otherwise acquire Cadbury. </a:t>
            </a:r>
            <a:endParaRPr b="0" lang="en-US" sz="1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a:t>
            </a:r>
            <a:endParaRPr b="1" lang="en-US" sz="2000" spc="-1" strike="noStrike">
              <a:solidFill>
                <a:srgbClr val="000000"/>
              </a:solidFill>
              <a:latin typeface="Arial"/>
            </a:endParaRPr>
          </a:p>
        </p:txBody>
      </p:sp>
      <p:pic>
        <p:nvPicPr>
          <p:cNvPr id="721" name="Picture 2" descr=""/>
          <p:cNvPicPr/>
          <p:nvPr/>
        </p:nvPicPr>
        <p:blipFill>
          <a:blip r:embed="rId1"/>
          <a:stretch/>
        </p:blipFill>
        <p:spPr>
          <a:xfrm>
            <a:off x="457200" y="2490840"/>
            <a:ext cx="8229600" cy="274464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 Fees</a:t>
            </a:r>
            <a:endParaRPr b="1" lang="en-US" sz="2000" spc="-1" strike="noStrike">
              <a:solidFill>
                <a:srgbClr val="000000"/>
              </a:solidFill>
              <a:latin typeface="Arial"/>
            </a:endParaRPr>
          </a:p>
        </p:txBody>
      </p:sp>
      <p:sp>
        <p:nvSpPr>
          <p:cNvPr id="72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estimated that total offer-related costs will be $422 million. These costs have been accrued as a current liability, net of a $75 million tax benefi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we are required to expense these costs as they are incurred, we have charged them to retained earnings as of June 30, 2009. No adjustment has been made to either income statement for these costs as they are non-recurring. </a:t>
            </a:r>
            <a:endParaRPr b="0"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 and Consideration</a:t>
            </a:r>
            <a:endParaRPr b="1" lang="en-US" sz="2000" spc="-1" strike="noStrike">
              <a:solidFill>
                <a:srgbClr val="000000"/>
              </a:solidFill>
              <a:latin typeface="Arial"/>
            </a:endParaRPr>
          </a:p>
        </p:txBody>
      </p:sp>
      <p:sp>
        <p:nvSpPr>
          <p:cNvPr id="601"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Offer – July 2009</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er is a single offer for all of the issued and outstanding Cadbury ordinary shares, </a:t>
            </a: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basic terms of the offer, Cadbury security holders who accept the offer will be entitled to receive: </a:t>
            </a:r>
            <a:endParaRPr b="0" lang="en-US" sz="20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 pence in cash and 0.1874 shares of Kraft Foods common stock for each outstanding Cadbury ordinary share validly tendered and not withdrawn; and </a:t>
            </a: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 pence in cash and 0.7496 shares of Kraft Foods common stock for each outstanding Cadbury ADS validly tendered and not withdrawn. </a:t>
            </a:r>
            <a:endParaRPr b="0" lang="en-US" sz="1800" spc="-1" strike="noStrike">
              <a:solidFill>
                <a:srgbClr val="000000"/>
              </a:solidFill>
              <a:latin typeface="Arial"/>
            </a:endParaRPr>
          </a:p>
          <a:p>
            <a:pPr marL="406440" indent="-406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Opinions</a:t>
            </a:r>
            <a:endParaRPr b="1" lang="en-US" sz="2000" spc="-1" strike="noStrike">
              <a:solidFill>
                <a:srgbClr val="000000"/>
              </a:solidFill>
              <a:latin typeface="Arial"/>
            </a:endParaRPr>
          </a:p>
        </p:txBody>
      </p:sp>
      <p:sp>
        <p:nvSpPr>
          <p:cNvPr id="725" name=""/>
          <p:cNvSpPr txBox="1"/>
          <p:nvPr/>
        </p:nvSpPr>
        <p:spPr>
          <a:xfrm>
            <a:off x="762120" y="1295280"/>
            <a:ext cx="7696080" cy="5105520"/>
          </a:xfrm>
          <a:prstGeom prst="rect">
            <a:avLst/>
          </a:prstGeom>
          <a:noFill/>
          <a:ln w="0">
            <a:noFill/>
          </a:ln>
        </p:spPr>
        <p:txBody>
          <a:bodyPr lIns="92160" rIns="92160" tIns="46080" bIns="46080" anchor="t">
            <a:normAutofit fontScale="98000"/>
          </a:bodyPr>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ry Bivens and Jason English of JPMorgan estimate the deal will dilute earnings for the first two years. “Our previous estimate of $2.20 for this year will go to $2.04,” they stated in a report. Financing the merger is part of the drag. JP Morgan analysts estimate that the incremental annual interest expense for the combined companies is $533 million, based on the $9.5 billion Kraft raised through an offering of 6 percent bonds.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ts' consensus earnings estimate for 2010, according to Zacks Investment Research Group, is $2.16 per diluted share, which is 16 cents higher than the estimate for 2009.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2008 Kraft earned $2.7 billion or $1.77 per diluted share on sales of $31.2 billion. Cadbury posted 2008 earnings of 388 million pounds ($606 millon) at today's exchange rate) on revenues of 5.4 billion pounds ($8.4 billion).</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vens and English are skeptical about Kraft's prediction that the acquisition will increase its long term organic growth to 5 percent from 4 percent. “History would suggest that the addition of Cadbury alone will not add 100 basis points to Kraft’s organic sales growth rate,” they wrote.</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lso note that Kraft is taking over a huge British company that specializes in confectionery, an industry in which Kraft is not expert. “Integration risks pose the greatest threat to success,” Bivens and English stated. They see the process as "a bumpy, but upward, road."</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merger agreement was announced Moody’s Investor Service, Fitch Ratings and Standard &amp; Poor’s marked down Kraft debt to the lowest investment grade. </a:t>
            </a:r>
            <a:endParaRPr b="0" lang="en-US" sz="1400" spc="-1" strike="noStrike">
              <a:solidFill>
                <a:srgbClr val="000000"/>
              </a:solidFill>
              <a:latin typeface="Arial"/>
            </a:endParaRPr>
          </a:p>
          <a:p>
            <a:pPr marL="398160" indent="-398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Results</a:t>
            </a:r>
            <a:endParaRPr b="1" lang="en-US" sz="2000" spc="-1" strike="noStrike">
              <a:solidFill>
                <a:srgbClr val="000000"/>
              </a:solidFill>
              <a:latin typeface="Arial"/>
            </a:endParaRPr>
          </a:p>
        </p:txBody>
      </p:sp>
      <p:pic>
        <p:nvPicPr>
          <p:cNvPr id="727" name="Picture 2" descr=""/>
          <p:cNvPicPr/>
          <p:nvPr/>
        </p:nvPicPr>
        <p:blipFill>
          <a:blip r:embed="rId1"/>
          <a:stretch/>
        </p:blipFill>
        <p:spPr>
          <a:xfrm>
            <a:off x="615960" y="1523880"/>
            <a:ext cx="8118360" cy="4800600"/>
          </a:xfrm>
          <a:prstGeom prst="rect">
            <a:avLst/>
          </a:prstGeom>
          <a:ln w="0">
            <a:noFill/>
          </a:ln>
        </p:spPr>
      </p:pic>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Realised</a:t>
            </a:r>
            <a:endParaRPr b="1" lang="en-US" sz="2000" spc="-1" strike="noStrike">
              <a:solidFill>
                <a:srgbClr val="000000"/>
              </a:solidFill>
              <a:latin typeface="Arial"/>
            </a:endParaRPr>
          </a:p>
        </p:txBody>
      </p:sp>
      <p:pic>
        <p:nvPicPr>
          <p:cNvPr id="729" name="Picture 2" descr=""/>
          <p:cNvPicPr/>
          <p:nvPr/>
        </p:nvPicPr>
        <p:blipFill>
          <a:blip r:embed="rId1"/>
          <a:stretch/>
        </p:blipFill>
        <p:spPr>
          <a:xfrm>
            <a:off x="1338120" y="1600200"/>
            <a:ext cx="6467760" cy="45259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 Assumptions</a:t>
            </a:r>
            <a:endParaRPr b="1" lang="en-US" sz="2000" spc="-1" strike="noStrike">
              <a:solidFill>
                <a:srgbClr val="000000"/>
              </a:solidFill>
              <a:latin typeface="Arial"/>
            </a:endParaRPr>
          </a:p>
        </p:txBody>
      </p:sp>
      <p:pic>
        <p:nvPicPr>
          <p:cNvPr id="731" name="Picture 2" descr=""/>
          <p:cNvPicPr/>
          <p:nvPr/>
        </p:nvPicPr>
        <p:blipFill>
          <a:blip r:embed="rId1"/>
          <a:stretch/>
        </p:blipFill>
        <p:spPr>
          <a:xfrm>
            <a:off x="1289160" y="1600200"/>
            <a:ext cx="6565680" cy="452592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a:t>
            </a:r>
            <a:endParaRPr b="1" lang="en-US" sz="2000" spc="-1" strike="noStrike">
              <a:solidFill>
                <a:srgbClr val="000000"/>
              </a:solidFill>
              <a:latin typeface="Arial"/>
            </a:endParaRPr>
          </a:p>
        </p:txBody>
      </p:sp>
      <p:pic>
        <p:nvPicPr>
          <p:cNvPr id="733" name="Picture 2" descr=""/>
          <p:cNvPicPr/>
          <p:nvPr/>
        </p:nvPicPr>
        <p:blipFill>
          <a:blip r:embed="rId1"/>
          <a:stretch/>
        </p:blipFill>
        <p:spPr>
          <a:xfrm>
            <a:off x="533520" y="1600200"/>
            <a:ext cx="6226200" cy="4525920"/>
          </a:xfrm>
          <a:prstGeom prst="rect">
            <a:avLst/>
          </a:prstGeom>
          <a:ln w="0">
            <a:noFill/>
          </a:ln>
        </p:spPr>
      </p:pic>
      <p:pic>
        <p:nvPicPr>
          <p:cNvPr id="734" name="Picture 3" descr=""/>
          <p:cNvPicPr/>
          <p:nvPr/>
        </p:nvPicPr>
        <p:blipFill>
          <a:blip r:embed="rId2"/>
          <a:stretch/>
        </p:blipFill>
        <p:spPr>
          <a:xfrm>
            <a:off x="7238880" y="1143000"/>
            <a:ext cx="1457280" cy="486720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Depositary Share (ADS)</a:t>
            </a:r>
            <a:endParaRPr b="1" lang="en-US" sz="2000" spc="-1" strike="noStrike">
              <a:solidFill>
                <a:srgbClr val="000000"/>
              </a:solidFill>
              <a:latin typeface="Arial"/>
            </a:endParaRPr>
          </a:p>
        </p:txBody>
      </p:sp>
      <p:sp>
        <p:nvSpPr>
          <p:cNvPr id="73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 dollar-denominated equity share of a foreign-based company available for purchase on an American stock exchang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Depositary Shares (ADSs) are issued by depository banks in the U.S. under agreement with the issuing foreign company; the entire issuance is called an American Depositary Receipt (ADR) and the individual shares are referred to as ADS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d to the financial markets in 1927, an American depositary receipt (ADR) is a stock that trades in the United States but represents a specified number of shares in a foreign corporation. ADRs are bought and sold on American markets just like regular stocks, and are issued/sponsored in the U.S. by a bank or brokerage. </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Example</a:t>
            </a:r>
            <a:endParaRPr b="1" lang="en-US" sz="2000" spc="-1" strike="noStrike">
              <a:solidFill>
                <a:srgbClr val="000000"/>
              </a:solidFill>
              <a:latin typeface="Arial"/>
            </a:endParaRPr>
          </a:p>
        </p:txBody>
      </p:sp>
      <p:sp>
        <p:nvSpPr>
          <p:cNvPr id="73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s use an example to give you a better idea of how the ADR process works. Suppose a recent boom in the popularity of Bloody Mary drinks has increased the prospects for the vodka industry. Russian Vodka Inc. wants to list shares on the NYSE to gain exposure to the U.S. market and to tap into the growing demand for vodka.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n Vodka already trades on the Russian Stock Exchange at 127 Russian rubles, which, at this time, is equivalent to US$4.58. Let's say that a U.S. bank purchases 30 million shares from Russian Vodka Inc. and issues them in the U.S. at a ratio of 10:1. This means each ADR share you purchase is worth 10 shares on the Russian Stock Exchange. A quick calculation tells us that the new ADR should have an issue price of around US$45.80 each (10 times $4.58).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n ADR is priced and sold on the market, its price is determined by supply and demand, just like an ordinary stock. However, if the U.S. price varies too far from the Russian price after taking the currency exchange rate and the ratio of ADRs to home country shares into account, an arbitrage opportunity may arise. ADRs tend to follow the general trend of the home country shares, but this is not always the case. </a:t>
            </a:r>
            <a:endParaRPr b="0" lang="en-US" sz="1600" spc="-1" strike="noStrike">
              <a:solidFill>
                <a:srgbClr val="000000"/>
              </a:solidFill>
              <a:latin typeface="Arial"/>
            </a:endParaRPr>
          </a:p>
          <a:p>
            <a:pPr marL="406440" indent="-406440">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to Cadbury</a:t>
            </a:r>
            <a:endParaRPr b="1" lang="en-US" sz="2000" spc="-1" strike="noStrike">
              <a:solidFill>
                <a:srgbClr val="000000"/>
              </a:solidFill>
              <a:latin typeface="Arial"/>
            </a:endParaRPr>
          </a:p>
        </p:txBody>
      </p:sp>
      <p:sp>
        <p:nvSpPr>
          <p:cNvPr id="740"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 August 2009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r Roger,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very much enjoyed meeting you this morning. As I explained, we believe that the combination of our companies would provide a compelling value proposition for both our shareholders. As analysts and industry observers have long speculated, our two great companies are highly complementary and a combination makes a great deal of strategic and financial sense. We believe that now is the time to pursue a transaction as a result of the significant opportunities available to both of us. We look forward to engaging in constructive, friendly discussions and working toward a positive outcome on a recommended basis.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great respect and admiration for Cadbury plc (“Cadbury”), its employees, its leadership and its proud heritage. We have also taken note of your recent performance and the successful ongoing implementation of your Vision Into Action programme. However, we believe that Cadbury’s prospects, ability to fully realise operational efficiencies and capacity to invest are necessarily constrained given its limited scale and scope relative to larger global competitors. We see few catalysts for sustained future value creation for Cadbury as a standalone entity. In contrast, we have concluded that we can strengthen both our companies by bringing them together, enhancing our worldwide scale and scope, and capitalising on significant opportunities to build a global leader in the food and snacking industry for the benefit of all of our respective stakeholders. In so doing, we are eager to build upon the success of your iconic brands and strong British heritage through increased investment and innov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I am writing to set out the details of a possible offer to combine Cadbury and Kraft Foods Inc. (“Kraft Foods”) (a “Possible Offer”), as approved by the Board of Directors of Kraft Foods. Subject to the pre-conditions set out below, Kraft Foods is prepared to offer 300 pence in cash and 0.2589 new Kraft Foods shares per Cadbury share, which values each Cadbury share at 755 pence (based on yesterday’s closing price of $28.42 for a Kraft Foods share and an exchange rate of 1.617 $/£). This price represents an attractive premium to any measure of the standalone value of Cadbury and fully reflects your recent performance and prospects. Specifically, this price represents a premium of: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44% over Cadbury’s share price of 524 pence on 3 July 2009, prior to recent analyst suggestions regarding potential sector consolidation;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7% over Cadbury’s 90-day average share price of 553 pence in the period up to 27 August 2009, the last business day preceding this letter; and  </a:t>
            </a:r>
            <a:endParaRPr b="0" lang="en-US" sz="1000" spc="-1" strike="noStrike">
              <a:solidFill>
                <a:srgbClr val="000000"/>
              </a:solidFill>
              <a:latin typeface="Arial"/>
            </a:endParaRPr>
          </a:p>
          <a:p>
            <a:pPr marL="406440" indent="-406440">
              <a:spcBef>
                <a:spcPts val="24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   </a:t>
            </a:r>
            <a:r>
              <a:rPr b="0" lang="en-US" sz="1000" spc="-1" strike="noStrike">
                <a:solidFill>
                  <a:srgbClr val="000000"/>
                </a:solidFill>
                <a:latin typeface="Arial"/>
              </a:rPr>
              <a:t>31% over Cadbury’s share price of 578 pence at close yesterday. </a:t>
            </a:r>
            <a:endParaRPr b="0" lang="en-US" sz="1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2"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ould also point out that this price is beyond any price at which Cadbury’s shares have traded since the demerg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ossible Offer would provide your shareholders with both value certainty and the opportunity to enjoy the significant value upside in the combined entity’s attractive growth prospects and considerable synergies. Kraft Foods would also offer a mix and match facility under which Cadbury shareholders could elect, subject to availability, to vary the proportions in which they would receive cash and new Kraft Foods shar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believe that the strategic and financial rationale for this transaction is compelling. The transaction would create: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company with approximately $50 billion in revenues, with leading shares in snacking and an exceptional portfolio of confectionery and biscuit brands around the worl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geographically diversified combined business, with leading positions and significant scale in key developing markets including India, Mexico, Brazil, China and Russia;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strong presence in instant consumption channels in both developed and developing markets, expanding the reach and margin potential of the combined business;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the potential for meaningful revenue synergies over time from investments in distribution, marketing and product development, as well as a significant opportunity to realise pre-tax cost savings of at least $625 million annually through increased operational efficiencie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raft Foods has a proven track record of successfully completing and integrating strategic combinations to build iconic brands and multi-national businesses, including the acquisitions of LU in 2007 and Nabisco in 2000.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mbination with Cadbury is consistent with Kraft Foods’ stated strategic objective to build a high-performing global company by reframing our categories, capitalising on our established sales capabilities and driving down costs without compromising our commitment to high quality. Over the past three years, we have successfully positioned Kraft Foods for sustainable, profitable growth. A combination with Cadbury would mark a logical next step in our transformation as we shape the company into a more global, higher-growth and higher-margin entity. </a:t>
            </a:r>
            <a:endParaRPr b="0" lang="en-US" sz="9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gether, we would draw on the collective strengths of our two organisations and create a stronger, more competitive global company for the benefit of all stakeholders. We believe that the growth prospects and global scope of the enlarged entity should lead to increased opportunities for talented employees and managers of both companies. In addition, we confirm that the existing contractual employment rights, including pension rights, of all employees of Cadbury would be fully safeguarded</a:t>
            </a:r>
            <a:r>
              <a:rPr b="0" lang="en-US" sz="800" spc="-1" strike="noStrike">
                <a:solidFill>
                  <a:srgbClr val="000000"/>
                </a:solidFill>
                <a:latin typeface="Arial"/>
              </a:rPr>
              <a:t>. The consideration required for the Possible Offer would be provided from a combination of Kraft Foods’ existing funds, new debt and the issuance of equity. Financing would be on the basis that Kraft Foods would maintain an investment-grade credit rating. The significant cash flow of the enlarged entity following a combination would allow for rapid debt paydown and the continued funding of growth initiative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raft Letter Continued</a:t>
            </a:r>
            <a:endParaRPr b="1" lang="en-US" sz="2000" spc="-1" strike="noStrike">
              <a:solidFill>
                <a:srgbClr val="000000"/>
              </a:solidFill>
              <a:latin typeface="Arial"/>
            </a:endParaRPr>
          </a:p>
        </p:txBody>
      </p:sp>
      <p:sp>
        <p:nvSpPr>
          <p:cNvPr id="744"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ogether with our legal advisers, have undertaken an analysis in relation to anti-trust matters. The complementary nature of our two businesses means that any antitrust concerns will be few, and limited in scope: we are confident that any issues can be appropriately addressed within the envisaged implementation timeframe. In this regard, we would suggest that our respective legal advisers meet at your earliest convenience, in order for our advisers to explain their analysis, and for next steps to be identifie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believe it is in all parties’ interests to progress this transaction as swiftly as possible. Our senior management and advisers have already completed extensive analysis and due diligence based on publicly available information. Accordingly, our due diligence requirements are limited, confirmatory in nature and capable of being addressed within a compressed timeframe. Lazard is acting as our lead financial adviser. We have also retained Centerview Partners, Citigroup and Deutsche Bank as financial advisers. Our legal advisers are Clifford Chance; Cravath, Swaine &amp; Moore; Gibson, Dunn &amp; Crutcher; and Arnold &amp; Port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Kraft Foods’ preference to implement any offer by means of a scheme of arrangement but we reserve the right to change this to a general offer. Any offer, if made, would be subject to the terms and conditions usually attaching to a scheme of arrangement, or offer, involving a UK public compan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king of any offer would be subject to the following pre-condi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satisfactory completion of a limited due diligence review by Kraft Foods, including access to Cadbury’s internal plan and projections;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Kraft Foods obtaining satisfactory financing; and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   </a:t>
            </a:r>
            <a:r>
              <a:rPr b="0" lang="en-US" sz="900" spc="-1" strike="noStrike">
                <a:solidFill>
                  <a:srgbClr val="000000"/>
                </a:solidFill>
                <a:latin typeface="Arial"/>
              </a:rPr>
              <a:t>a unanimous recommendation by the directors of Cadbury to vote in favour of the scheme, or if relevant, to accept the off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avoidance of doubt, this letter should not be construed in any regard as constituting an offer or evincing an intention to make an offer or inviting an offer or imposing an obligation to make an offer for Cadbury and any of its securities or otherwise giving rise to legal relations (save for the obligation to keep its terms confidential) and, in particular, does not constitute a firm intention to make an offer for the purposes of Rule 2.5 of The City Code on Takeovers and Mergers. This proposal is made on a strictly private and confidential basis. This letter shall be governed by and construed in accordance with English law.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trust that our proposal makes clear our level of seriousness and enthusiasm for pursuing this opportunity. We are willing to commit substantial time and financial resources to do so. This matter has the highest priority for Kraft Foods and we are keen to have our advisers and executive team engage with yours so that we can progress this proposal in an expeditious manner.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 our conversation, I look forward to hearing from you short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s sincerely, </a:t>
            </a:r>
            <a:endParaRPr b="0" lang="en-US" sz="900" spc="-1" strike="noStrike">
              <a:solidFill>
                <a:srgbClr val="000000"/>
              </a:solidFill>
              <a:latin typeface="Arial"/>
            </a:endParaRPr>
          </a:p>
          <a:p>
            <a:pPr marL="406440" indent="-406440">
              <a:spcBef>
                <a:spcPts val="224"/>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ene B. Rosenfeld </a:t>
            </a:r>
            <a:endParaRPr b="0" lang="en-US" sz="9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Data and Introduction</a:t>
            </a:r>
            <a:endParaRPr b="1" lang="en-US" sz="2000" spc="-1" strike="noStrike">
              <a:solidFill>
                <a:srgbClr val="000000"/>
              </a:solidFill>
              <a:latin typeface="Arial"/>
            </a:endParaRPr>
          </a:p>
        </p:txBody>
      </p:sp>
      <p:sp>
        <p:nvSpPr>
          <p:cNvPr id="603"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raft Data</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Price: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ings per Share: $2.16</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478 mill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bury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4 pence the last trading day prior to acquisit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EPS of 22.6; Estimated EPS of 29.58</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Shares: 16.19 millio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 Value is 843 pence</a:t>
            </a:r>
            <a:endParaRPr b="0" lang="en-US" sz="1800" spc="-1" strike="noStrike">
              <a:solidFill>
                <a:srgbClr val="000000"/>
              </a:solidFill>
              <a:latin typeface="Arial"/>
            </a:endParaRPr>
          </a:p>
          <a:p>
            <a:pPr lvl="1" marL="635040" indent="16524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Initial Response to Kraft</a:t>
            </a:r>
            <a:endParaRPr b="1" lang="en-US" sz="2000" spc="-1" strike="noStrike">
              <a:solidFill>
                <a:srgbClr val="000000"/>
              </a:solidFill>
              <a:latin typeface="Arial"/>
            </a:endParaRPr>
          </a:p>
        </p:txBody>
      </p:sp>
      <p:sp>
        <p:nvSpPr>
          <p:cNvPr id="746"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ar Irene,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ve discussed your letter of 28 August with the Board of Directors of Cadbury plc.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oard believes strongly in both the strategy and prospects of Cadbury as an independent company. The Cadbury business is unique in both category and geographical scope and we are confident in our standalone growth prospect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will no doubt have seen, we are delivering against our Vision into Action plan as clearly demonstrated by our performance and we have the strength in our brands, together with the necessary scale in our categories and the management capacity to deliver substantial value to our shareholders.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proposal is unsolicited, unattractive and fundamentally undervalues Cadbury. Accordingly the Board, with the unqualified support of its advisers (Goldman Sachs, Morgan Stanley and UBS), unanimously rejects your proposal and confirms its commitment to its independent strateg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 sincerely, </a:t>
            </a:r>
            <a:endParaRPr b="0" lang="en-US" sz="1400" spc="-1" strike="noStrike">
              <a:solidFill>
                <a:srgbClr val="000000"/>
              </a:solidFill>
              <a:latin typeface="Arial"/>
            </a:endParaRPr>
          </a:p>
          <a:p>
            <a:pPr marL="406440" indent="-40644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ger Carr </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dbury Additional Response</a:t>
            </a:r>
            <a:endParaRPr b="1" lang="en-US" sz="2000" spc="-1" strike="noStrike">
              <a:solidFill>
                <a:srgbClr val="000000"/>
              </a:solidFill>
              <a:latin typeface="Arial"/>
            </a:endParaRPr>
          </a:p>
        </p:txBody>
      </p:sp>
      <p:sp>
        <p:nvSpPr>
          <p:cNvPr id="748" name=""/>
          <p:cNvSpPr txBox="1"/>
          <p:nvPr/>
        </p:nvSpPr>
        <p:spPr>
          <a:xfrm>
            <a:off x="762120" y="1295280"/>
            <a:ext cx="7696080" cy="5105520"/>
          </a:xfrm>
          <a:prstGeom prst="rect">
            <a:avLst/>
          </a:prstGeom>
          <a:noFill/>
          <a:ln w="0">
            <a:noFill/>
          </a:ln>
        </p:spPr>
        <p:txBody>
          <a:bodyPr lIns="92160" rIns="92160" tIns="46080" bIns="46080" anchor="t">
            <a:normAutofit/>
          </a:bodyPr>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y letter of 31st August, I informed you that the Board had rejected your unsolicited proposal on the grounds that it is unattractive and fundamentally undervalues Cadbury. Under your proposal, Cadbury would be absorbed into Kraft Foods’ low growth, conglomerate business model, an unappealing prospect which contrasts sharply with our strategy to be a pure play confectionery company. I also re-affirmed the Board’s confidence in our future prospects as an independent company. There is nothing in your letter dated 7th September, or your various announcements on and since that date, to change our view.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ould like to take the opportunity to expand on some points I made in my letter.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he past few years, Cadbury has completed a major corporate transformation through the acquisition of Adams and the demerger and sale of our beverage businesses. The disposal of Beverages provides the clear business focus we believe essential to achieve outstanding performanc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created a pure play confectionery business with strong brands occupying leading market positions in both developed markets and high growth emerging economies – a business of considerable inherent value, impossible to replicate and with a unique position in the global confectionery market. We have a clear set of targets, a track record of delivery accepted by the market and value enhancing plans to further exploit our proven growth platforms.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rough our performance to date that we have the scale, capabilities and resource to deliver on our commitments to shareholders. Since the Adams acquisition, our confectionery business has delivered top line growth of over 6%, we have increased our global market share by over 100 bps and generated comparable margin growth of over 200 bps, all while materially increasing spend on marketing and science and technology to drive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been able to demonstrate both organic and inorganic growth. The acquisition of Adams, together with more recent acquisitions, including Intergum and Sansei, provided scale and new growth opportunities in attractive product areas of gum and candy together with exposure to emerging markets that complemented our powerful British Commonwealth heritage.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integration of Adams achieved combined cost and revenue synergies of 14% by the end of 2006. We achieved this performance by reinvigorating sales growth, re-stimulating the acquired brands through increased marketing investment and widening the product range through greater commitment to product innovation.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understand the attraction of our business and fully appreciate the value and benefits it would offer to those looking for superior growth and exposure to our attractive product segments and markets. Equally, the quality of our management, the momentum of our business, the power of our brands, the strength of our market positions and the spread of our global footprint continue to underpin our belief in the business and its prospects as an independent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I would emphasise that the delivery of value to our shareholders remains at the top of our agenda. Your proposal is for Cadbury shareholders to exchange shares in a pure-play confectionery business for cash and shares in Kraft Foods, a company with a considerably less focused business mix and historically lower growth. In addition, the proposal is of uncertain value for Cadbury shareholders as underlined by the movement in the Cadbury share price since your announcement. Your proposal fundamentally fails to reflect the current value of Cadbury as a standalone business, its growth prospects and the potential synergies of a combined entity. </a:t>
            </a:r>
            <a:endParaRPr b="0" lang="en-US" sz="800" spc="-1" strike="noStrike">
              <a:solidFill>
                <a:srgbClr val="000000"/>
              </a:solidFill>
              <a:latin typeface="Arial"/>
            </a:endParaRPr>
          </a:p>
          <a:p>
            <a:pPr marL="406440" indent="-406440">
              <a:spcBef>
                <a:spcPts val="201"/>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committed to the delivery of optimum value to our shareholders and our Board remains convinced that this is achieved through continuing to deliver our standalone pure play confectionery strategy. </a:t>
            </a:r>
            <a:endParaRPr b="0" lang="en-US" sz="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ergies</a:t>
            </a:r>
            <a:endParaRPr b="1" lang="en-US" sz="20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apoleon Bonepart</dc:creator>
  <dc:description/>
  <dc:language>en-US</dc:language>
  <cp:lastModifiedBy>Monica Lewinski</cp:lastModifiedBy>
  <cp:lastPrinted>1999-07-15T13:20:36Z</cp:lastPrinted>
  <dcterms:modified xsi:type="dcterms:W3CDTF">2011-09-29T15:14:22Z</dcterms:modified>
  <cp:revision>477</cp:revision>
  <dc:subject/>
  <dc:title>Risk Analysis in Project Finance</dc:title>
</cp:coreProperties>
</file>